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29E-7B56-4DEE-8413-4787650E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5D6-57E8-4D8F-AEE6-75578CE2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A17-F865-4770-BEA3-43F18642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90A-9906-4AD7-BB0B-9FD04148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E968-F486-47B9-8FB3-D33C53D0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0542-CD02-4239-88F9-80233154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412E-FAE5-4380-AF4C-E555F463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BE16-DC0A-4882-AFB2-600CE27E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5C1D-579F-4599-AA6A-5EC2C608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8A15-DD07-42D2-8EDA-E233A394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6CDA-A13E-4115-A96E-7D17A8DC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336-61A9-4103-B2C8-346599B3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071D-8CF7-41BB-9AE7-EBACEA2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1580-D2A6-4D03-80C7-2657062A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BA1A-3B41-4D22-B0AA-4B101B17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167A-A786-4964-986C-925ACE8F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B3B5-2426-4A16-9F69-18CEDDE2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AE5-8609-43D1-A2C9-01DAFCBA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F93-C613-4BE7-A632-27ABA6D7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ED9-2B64-4061-8168-117F331F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98A-BC84-47BD-A2B7-DD639AEF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D57-5719-4F9C-AD49-0D13E4B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247-D69A-4601-B015-A1502E69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2F9-6EBF-4695-973D-3E21C8D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AC3A-887B-4E0B-B07B-9CB8DB141E0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6265-896B-4DF2-AF13-42184EF01AA2}" type="slidenum"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00120"/>
            <a:ext cx="6400800" cy="3571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с подростками в ситуациях высокого суицидального рис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5715000"/>
            <a:ext cx="60325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ароварова Ольга Владимиров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-психолог ГЦОиЗ «Магистр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1384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Сопровождение после откровенной бесед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0040" y="1785600"/>
            <a:ext cx="8215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Риск повторного суицида весьма высок. Необходимо продолжительное время оказывать подростку внимание. При этом важно соблюдать чувство меры. Внимание и забота выражаются в подчеркивании значимости его достижений и ценности для коллектив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714240"/>
            <a:ext cx="76960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ВАЖНО!!!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ОБЩЕНИЕ С ПОДРОСТКОМ ДОЛЖНО БЫТЬ КАК СО ВЗРОСЛЫМ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ПО ОКОНЧАНИИ БЕСЕДЫ НЕОБХОДИМО ПОДЧЕРКНУТЬ СВОЮ ВЗРОСЛУЮ ПОДДЕРЖКУ И ПОМОЩ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5676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e45"/>
                </a:solidFill>
                <a:latin typeface="Comic Sans MS"/>
              </a:rPr>
              <a:t>Заблужден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1.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Самоубийства совершаются, в основном, психически ненормальными людьм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2.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Самоубийство предупредить невозможно. Тот, кто решил покончить с собой, рано или поздно это сделает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714240"/>
            <a:ext cx="7696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3. Если человек открыто заявляет о желании покончить с собой, то он никогда не совершит самоубийств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4. Если загрузить подростка учёбой, ему некогда будет думать о самоубийств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5. Чужая душа – потемки. Предвидеть попытку самоубийства невозможно       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1071360"/>
            <a:ext cx="7696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6. Существует некий тип людей, «склонных к самоубийству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7. Не существует никаких признаков, которые бы указывали на то, что человек решился на самоубийств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135720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8. Решение о самоубийстве приходит внезапно, без предварительной подготовк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9.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Если человек совершил попытку самоубийства, он никогда этого не повторит снов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«…СЛОВОМ МОЖНО УБИТЬ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СЛОВОМ МОЖНО СПАСТИ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СЛОВОМ МОЖНО ПОЛКИ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ЗА СОБОЙ ПОВЕСТИ…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Вадим Шефнер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:\Documents and Settings\Старший психолог ОПО\Мои документы\Фото\Пейзажи Дмитриевой О. В\P1010146.JPG"/>
          <p:cNvPicPr/>
          <p:nvPr/>
        </p:nvPicPr>
        <p:blipFill>
          <a:blip r:embed="rId1"/>
          <a:stretch/>
        </p:blipFill>
        <p:spPr>
          <a:xfrm>
            <a:off x="1733400" y="128592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6760" y="92880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Ситуации высокого суицидального риска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45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2e45"/>
                </a:solidFill>
                <a:latin typeface="Comic Sans MS"/>
              </a:rPr>
              <a:t>это</a:t>
            </a:r>
            <a:r>
              <a:rPr b="1" lang="ru-RU" sz="2800" spc="-1" strike="noStrike">
                <a:solidFill>
                  <a:srgbClr val="002e45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2e45"/>
                </a:solidFill>
                <a:latin typeface="Comic Sans MS"/>
              </a:rPr>
              <a:t>ситуации, при которых осуществляется переход от намерений к конкретным действиям (размышления и составление плана суицида, ритуал «прощания» с близкими – подарки, разговоры о прощении и  напутственные пожелания, и т.д.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428760"/>
            <a:ext cx="7696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Взаимодействие с подростком в ситуации высокого суицидального риска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это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внимание, поддержка, забота, беседа и конкретная помощь, направленные на поиск совместного с подростком решения его проблемы. В том числе направление к специалисту (психологу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428760"/>
            <a:ext cx="76960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Категории подростков для взаимодействия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1. «Свидетели» (</a:t>
            </a: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подростки, которые непосредственно общались с суицидентом, видели суицид или слышали о суициде знакомого человека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2. «Участники» (</a:t>
            </a: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подростки, совершившие попытку суицида</a:t>
            </a: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357120"/>
            <a:ext cx="7696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Алгоритм взаимодействия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Установление контакт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Мотивирование подростка на рассказ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Активное слушание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Формулирование выводов по проведенной беседе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Сопровождение после откровенной беседы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785880"/>
            <a:ext cx="6870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Установление контакт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2428560"/>
            <a:ext cx="76960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Искреннее желание помочь подростку;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Открытые позы;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Спокойное и уверенное поведение, ровные интонаци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Мотивирование подростка на расска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142720"/>
            <a:ext cx="7696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Фразы типа: «У всех временами возникают серьезные проблемы и тогда люди ищут выход. Я хочу и могу помочь. Давай вместе подумаем над этой проблемой. Вместе обсудим разные варианты. Ты какие варианты уже обдумал? К какому выводу ты пришел?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571680"/>
            <a:ext cx="68706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Активное слушани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57240"/>
            <a:ext cx="76960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- Умение слушать и слышат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2e45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Задавать уточняющие вопросы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2e45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Невербальное выражение своего присутствия и поддержк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2e45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Употребление фраз, побуждающих к повышению уровня доверия и к откровен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6870600" cy="13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e45"/>
                </a:solidFill>
                <a:latin typeface="Comic Sans MS"/>
              </a:rPr>
              <a:t>Формулирование выводов по проведенной бесед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1988640"/>
            <a:ext cx="8286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2e45"/>
                </a:solidFill>
                <a:latin typeface="Comic Sans MS"/>
              </a:rPr>
              <a:t>Выводы по результатам беседы на тему суицида должны соответствовать достижению главной цели – сохранению жизни подростка. Кроме того, выводы должны показать подростку и другие варианты разрешения проблемной ситуаци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e4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2:10:57Z</dcterms:created>
  <dc:creator>asr</dc:creator>
  <dc:description/>
  <dc:language>en-US</dc:language>
  <cp:lastModifiedBy>Valued eMachines Customer</cp:lastModifiedBy>
  <cp:lastPrinted>2015-10-14T06:14:52Z</cp:lastPrinted>
  <dcterms:modified xsi:type="dcterms:W3CDTF">2015-10-14T09:42:04Z</dcterms:modified>
  <cp:revision>185</cp:revision>
  <dc:subject/>
  <dc:title>Психологические основы педагогического общения</dc:title>
</cp:coreProperties>
</file>