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67E-E0AE-491F-B847-FCFE0D9E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312-BCFC-4130-9C92-D16B9E41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5E6-86D1-4100-AE6C-B57DFBAD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C65-7917-4731-8826-4DBB5A06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8F45-A7F4-49EC-ABE9-75296949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B4FB-ADF0-4E8A-899D-179BEA25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C872-F7DD-40AB-9673-35213D26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4AA4-AF32-4961-BC9E-29D36EE0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AE04-F371-40AB-B756-EB3554BD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5E35-3C82-4BA9-8491-01B3C826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8E67-EAEA-45AE-9CCE-E1A9E509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3FA-2E4B-4019-B8F0-AFC3A3B0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D577-CD42-4B68-BD39-B0CD35E5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0B96-5C6D-418B-9E7C-218DC0A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A01D-E643-4034-802B-7F167C25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61CE-FB51-4AEB-AC4F-974BA06A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C05B-A7BF-45BF-A8EA-B0590FD7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9B2-06C1-4B63-A6AD-F76B2083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0E7-E6E9-4B05-B60D-55BE215E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A05-554C-4750-A543-FFE5D85D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972-26C3-449F-9503-9818FC6F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B15-A28A-4F62-9B39-6865DEA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247-087B-48D7-9D82-75F89DF7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975-EEC8-47B9-8B78-64F3E179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2E90-9D98-44EE-91D3-BA3A7FDFA0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09DF-59BE-45FA-9D04-E4D932539F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38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Факторы, способствующие суицидальному поведению. Алгоритм действий педагога ОО по факту суицидальной попытк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4286160"/>
            <a:ext cx="77868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.И.Антерей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меститель директора по НМР «ГЦОЗ «Магист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лавный детский нарколог Н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858080" cy="15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иологические факторы р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2928960"/>
            <a:ext cx="77724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отонинэргическая дисфункция (низкий уровень одного из метаболитов серотонина в спинномозговой жидкости, нарушение функции нейронов, содержащих серотонин в прифронтальной коре головного мозг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Биографические ФСР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ицидальные мысли, намерения, попытки в прош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ицидальное поведение родственников, близких, друзей, значимых л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мосексуальная ориентация (оба по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ндикаторы суицидального р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сложившейся ситуации, настроения, когнитивной деятельности и высказываний человека, увеличивающие степень риска С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туаци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еден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моциона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ндикаторы суицидального р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туацион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мерть близкого, расставание с любимым, вынужденная социальная изоляция, сексуальное насилие, нежелательная беременность, уни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еденческ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злоупотребление ПАВ, уход из дома, прекращение ухода за собой, предпочтение тем, связанных с самоубийством, «приведение дел в порядо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ндикаторы суицидального р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муникатив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личие суицидальных мыслей, намерений, планов; разрешающие установки к СП; негативная триада – негативная оценка личности, окружающего, будущего; «туннельное поведение»; импульсивность; доступность средств суиц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моциона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епрессивное настроение, переживание горя, амбивалентность по отношению к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заимосвязь ПАВ и суицид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ый фактор возникновения злоупотребления ПАВ и суицидов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лоупотребление ПАВ приводит к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пре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лоупотребление ПАВ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зывает психосоциальную дезадаптац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что увеличивает риск суицидаль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ханизм, усиливающий риск суицида при употреблении ПА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психологического дистр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агрессив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корение перехода суицидальных мыслей в 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жение сферы познаватель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задапт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силение риска суицидальн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Факторы риска продолжающегося суицидального повед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ое отношение к ребенку, либо утрата участия к н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оценка серьёзности предпринятой попытки, отнесение её к разряду лишь привлекающих форм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табильность отношений в семье и неспособность наладить отношения с ребёнком, обеспечить ему безопасное, поддерживающее окру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суицидальных попыток, выраженность депрессивных расстройств у членов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Формы аутоагрессивного поведения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эквиваленты суицидального поведения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2000160"/>
            <a:ext cx="7772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ксико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небрежение врачебными рекоменд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г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иквентные п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авданная склонность к рис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метчивый аз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горитм действий по факту С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ведомственный приказ МЗ НСО, МСР НСО, ГУ МВД РФ по НСО, Минобр НСО от 24.07.2013 №2533/839/343/18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реализации межведомственного подхода в оказании помощи детям с суицидальным поведени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Немедленно сообщить главному врачу государственной  медицинской  организации на территории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астота суицид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я – 3 место среди стран с высоким уровнем самоубий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-я по счету причина смерти во всем ми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озрасте от 15-44 лет – 4-я по значимости причина смерти, 6-я – плохого здоровья и потери трудо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27756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горитм действий по факту С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тановить контакт социальных педагогов и  психологов с ответственными лицами, сбор информации, оценка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заимодействие с администраци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лассным руководителем, родителя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бор  информации о ситуа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 состоянии учащихся, о группах, задействованных в данной ситуации (дети, родители, учителя).Выявление группы риска и оказание экстренной психологическ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ициация  обращения за помощью в иные организа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казывающие медицинскую, психологическую, социальную, правовую и иные виды помощи (ГССА, областной детский психоневрологический диспансер, органы опеки, соцзащиты, ПДН и др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ставление  антикризисного пла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ействий) с каждой группой, осуществляющей сопровождение субъектов образовательной среды в кризисной ситуации (дети, родители, учителя) – с участием заинтересованных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ганизация психологического сопровожд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ников образовательной среды  при проведении следственных мероприятий на территории 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гласование с администраций информации по происшеств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торая в случае необходимости будет представлена в С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ие в случае необходимости в траурных мероприятиях на кладб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горитм действий по факту С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7140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Организовать выявление группы риска и оказание экстренной психологической помощи (дети, родители, учител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зможные реакции на суици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оковые состояния с тревогой, растерян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вожно-фобические реакции (содержательно связанные и не связанные с событие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вленность, тоска, чувство в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ссия, разд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уализация старых, непроработанны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ение антивитальных переживаний и аутоагрессив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соматические реакции (вегетативные реакции, нарушения работы желудочно-кишечного тракта, сердечно-сосудистой системы, проблемы с дыхание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горитм действий по факту С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4400" y="149976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стреча с классом, в котором произошел суицид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зволяет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ценить наличие явной или потенциальной угрозы для жизн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для самого человека, находящемся в кризисном состоянии, так и его окру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порядочить информацию, выстроить последовательность соб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пповое обсуждение травматического события позволяет учащимся лучше понять произошедшее, понять погибшего (его проблемы, «пусковые» факторы, послужившие последней каплей, глубину отчаяния, его чувства), отреагировать свои чувства, повысить взаимопонимание и доверие между учащимися, адаптироваться после случившегося, формировать позитивное будущее, вернуть чувство самообладания, утраченное равновесие. На равновесие влияют несколько взаимодополняющих факторов:  реалистическое восприятие события; наличие адекватной поддержки (социальных ресурсов); адекватный механизм разрешения пробл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формировать учащихся об имеющихся очных экстренных и кризисных психологических службах в город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айоне), телефонах доверия (рассказать, для чего они существуют, как работают, оставить их координ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Индивидуальная работа с подростком, совершившим суицидальную попытку в постсуицидальный перио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горитм действий по факту С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. Заключительный э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установить согласованный «срок завершения» данной работы, когда официально в школе прекращаются разговоры о суицидальном происшествии и  начинается обычная школьная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коголь, наркотики и суици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714320"/>
            <a:ext cx="77724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й уровень самоубийц среди лиц, зависимых от алкоголя и наркот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самоконтроля в состоянии алкогольной и наркотической интоксикации (возможно и у лиц, не страдающих алкоголизмом или наркомание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коголь имеет отношение к 25 -30%, у молодежи до 50% самоуби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50% подростков соверша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втор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уицидальные попытки, в 4-10% случаев лета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Основные проблемы, предшествующие суицидальному поведению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916280"/>
            <a:ext cx="77724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блемы во взаимоотношениях с родител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зависят от степени понимания ими своих детей, сопереживания, нормативности отно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блемы в шко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могут быть связаны с личностью учителя (авторитарный или попустительский), социометрическим статусом подростка в классе (лидер, изгой), личностными отношениями к успеваемости, фактором жизненных перспекти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блемы во взаимоотношениях со сверстника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щение с друзьями (наличие близкого друга, принадлежность к неформальному объединению), общение с противоположным п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увства, сопровождающие суици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знадеж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гда будущее не предвещает ничего хороше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спомощ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щущение, что ты не можешь контролировать жизнь, от тебя ничего не завис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оля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чувство, что тебя никто не понимает, тобой никто не интересу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увство собственной незначительнос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язвленное чувство собственного достоинства, низкая само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рбальные и невербальные предвестники  суицид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менение эмоц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нижение настроения. Ребенок считает, что у него ничего не получится, он ни на что не способен. Он подавлен, безразличен, ощущает вину перед окружаю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менение повед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амоизоляция от семьи и близких. Снижение повседневной активности, потеря интереса к ранее существовавшим привычкам, хобби, изменение привычек: несоблюдение правил личной гигиены, наплевательское отношение к внешнему виду. Стремление к тому, чтобы все оставили его в покое, нарушение сна, аппетита. Прослушивание грустной музыки, предпочтение тем разговора и чтения, связанных со смертью и самоубийствами. Дарение или уничтожение своих вещей. Может быть грубость, гневливость, раздражительность. Письма и записки с суицидальными пережив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арактерны высказы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лучше уже не будет», «хочу умереть», «скоро все закончится», «хорошо бы заснуть и не проснуть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акторы суицидального риска (ФСР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42920" y="2852640"/>
            <a:ext cx="777240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-демограф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ко-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раф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циально-демографические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С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256536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ужской (у несовершеннолетн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зра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14 лети стар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ейная ситуа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понимание, безразличие и т.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дико-психологические ФСР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ическая пат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епрессия, химическая зависимость, расстройство личности, акцентуации характера: циклоидная, сенситивная, эпилептоидная, истероид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матическая пат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рожденные и приобретенные уродства, потеря физиологических функций, ВИЧ-инфе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4:55:06Z</dcterms:created>
  <dc:creator>Registratura</dc:creator>
  <dc:description/>
  <dc:language>en-US</dc:language>
  <cp:lastModifiedBy>Лариса</cp:lastModifiedBy>
  <dcterms:modified xsi:type="dcterms:W3CDTF">2015-10-15T03:21:35Z</dcterms:modified>
  <cp:revision>30</cp:revision>
  <dc:subject/>
  <dc:title>Факторы риска продолжающегося суицидального поведения</dc:title>
</cp:coreProperties>
</file>